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EE5-4FC0-453C-80EA-899971AF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165-31F7-46F5-BB60-7AD5A709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9CB-55C6-4C47-A03B-B0DE0324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076-6B5C-4A5A-B23E-0FBF6638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D188-46AC-41B2-B34D-47AC0F30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EF66-DE57-4B52-819F-7F5921F7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3FCC-8E6F-4990-A8C9-937A1F6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5D98-BE2D-408D-B1F9-6194816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103F-36F1-4194-A49B-31B80D2E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50B2-8CD4-4FF2-85F0-953169E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9C99-4CF4-4B14-8089-DF4C6004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709-54CA-4D6D-9134-BD46273E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86AE-2F97-4DED-94C7-7AEF7C4E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D8A8-62BD-47A3-A0F7-A7A865B8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5FDE-48E3-451F-8560-E3CBD627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8C82-ADE6-47AA-9623-06E1496F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4BEE-A01F-4793-9B48-FDF6A3D8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26A-8CB6-4B7A-9FB7-F32A36BD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BA7-C952-4B90-8449-CA4A4D3F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9BB-8F75-4F10-AA4C-AB610197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D49-8E59-46BF-878B-E816519A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589-63CD-4187-94FD-2F73A99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F1E-EE40-4D3E-8083-90880A84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58B-82D1-4A1F-8AC3-128F056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B292-0A32-4EE0-836B-6D8C1577BB4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9246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7F54-726D-4ACC-BDA6-E5D90D43BDD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space.org/" TargetMode="External"/><Relationship Id="rId3" Type="http://schemas.openxmlformats.org/officeDocument/2006/relationships/hyperlink" Target="http://flickr.com/" TargetMode="External"/><Relationship Id="rId4" Type="http://schemas.openxmlformats.org/officeDocument/2006/relationships/hyperlink" Target="http://digitaldialogues.blogs.com/learning_technologies/" TargetMode="External"/><Relationship Id="rId5" Type="http://schemas.openxmlformats.org/officeDocument/2006/relationships/hyperlink" Target="http://www.bloglines.com/" TargetMode="External"/><Relationship Id="rId6" Type="http://schemas.openxmlformats.org/officeDocument/2006/relationships/hyperlink" Target="http://del.icio.us/" TargetMode="External"/><Relationship Id="rId7" Type="http://schemas.openxmlformats.org/officeDocument/2006/relationships/hyperlink" Target="http://digitaldialogues.org/eportfolios" TargetMode="External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9246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The Age of Connection </a:t>
            </a:r>
            <a:br>
              <a:rPr sz="4000"/>
            </a:b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the Connected Learn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52560" y="4365360"/>
            <a:ext cx="628344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resented by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nne Bartlett-Brag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59640" y="6093000"/>
            <a:ext cx="24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9228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plications for Institu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32240" y="1294920"/>
            <a:ext cx="64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Radically re-conceptualise the learning cultur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hanges the essence of what it means to communicate and lear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ustomisable Learning Landscap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Eg. ELGG – hybrid web-logging, e-Portfolios, and social networking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92280" cy="2736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plications for Educato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68000" y="1294920"/>
            <a:ext cx="66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Opportunity to enrich the learning experienc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andscape Architects or Designer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Trusted source: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guiding,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dvising on technology options,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facilitating network contacts,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Empowering learners to identify &amp; customise their personal landscap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Challenges &amp; Issu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68000" y="1294920"/>
            <a:ext cx="66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onnectivity / acces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ritical literacy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Digital literacy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stitutional IT polici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Our (as educators) perceptions of teaching &amp; learning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utur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8000" y="1294920"/>
            <a:ext cx="66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Tahoma"/>
              </a:rPr>
              <a:t>If you don’t know where you are going,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Tahoma"/>
              </a:rPr>
              <a:t>then it doesn’t matter which road you take,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Tahoma"/>
              </a:rPr>
              <a:t>does it?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Cheshire Cat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lice in Wonderland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23920"/>
            <a:ext cx="1609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5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arning in the Information A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6360" y="1294920"/>
            <a:ext cx="76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earning dominated by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cces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formation – masses of it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Google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Delivery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Distribu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Focused on learning as an end product or acquisition model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me great examples – remember Froguts??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Brilliant use for hard to teach or hard to test abstract concept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Practice skill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teract or examine concepts, models or theori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98100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novating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learnin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with technolog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3640" y="1294920"/>
            <a:ext cx="590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Adding technology to existing subjects / cours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onverting materials to digital format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Adding computers to classroom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32640" y="5373720"/>
            <a:ext cx="1611360" cy="1198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1165320"/>
            <a:ext cx="31734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5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nhancing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learnin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processes with technolog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360" y="1294920"/>
            <a:ext cx="76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earner Management Systems (LMS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Enrolments, timetabling, student record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Student / lecturer communica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synchronous discussion board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Lectures notes, PowerPoint slid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Do these processes really enhance the learning experience?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04000" y="4187880"/>
            <a:ext cx="2111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arning in the Age of Connec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4000" y="1294920"/>
            <a:ext cx="66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earning dominated by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lways on – continuous computing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Laptops, handhelds, mobile phon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visible, portable information field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ireless network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Constant connectivity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creased levels of collaboration – beyond the classroom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1490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32240" y="1294920"/>
            <a:ext cx="64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ftware that supports group interactio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ftware that lets people rendezvous, connect or collaborate…results in the creation of shared interactive spaces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cludes 1 or more of the following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Support for conversational interaction between individuals or groups (eg. IM or asynchronous discussion forums)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Support for the development of personalised social networks –new connections –knowledge sharing - RS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6160" y="189000"/>
            <a:ext cx="248112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 Applica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76600" y="1294920"/>
            <a:ext cx="592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M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hat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Weblog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RSS &amp; aggregation – eg. Bloglin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bookmarking - eg. Del.ici.iou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sharing services – eg. Flickr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1028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t’s go exploring….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76600" y="1294920"/>
            <a:ext cx="592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Wiki –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wikispaces.org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sharing services – eg.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Flickr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4"/>
              </a:rPr>
              <a:t>LTUG weblog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kyp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RSS &amp; aggregation – eg.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5"/>
              </a:rPr>
              <a:t>Bloglin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bookmarking - eg.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6"/>
              </a:rPr>
              <a:t>Del.icio.u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7"/>
              </a:rPr>
              <a:t>ELGG – Digital Dialogu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50920" y="1268280"/>
            <a:ext cx="1028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92280" cy="273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plications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32240" y="1294920"/>
            <a:ext cx="64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New learning theories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onnectivism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Learning is a process of connecting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Maintaining connection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bility to see connections between ideas &amp; concept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Managing informa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George Siemens (2005)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6:58:38Z</dcterms:created>
  <dc:creator>Anne Bartlett-Bragg</dc:creator>
  <dc:description/>
  <dc:language>en-US</dc:language>
  <cp:lastModifiedBy>Anne Maree Jones</cp:lastModifiedBy>
  <dcterms:modified xsi:type="dcterms:W3CDTF">2008-05-30T09:43:45Z</dcterms:modified>
  <cp:revision>16</cp:revision>
  <dc:subject/>
  <dc:title>Can Technology Enhance Learning?</dc:title>
</cp:coreProperties>
</file>